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48B3-4623-4FB3-A595-CF3D7F290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FDD-0199-49E5-BE0D-56B13B6E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E8C8-FEAA-4E3A-93BA-F3CC8E80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4C40-1428-4243-A2FB-78E24D13B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95B-478F-42CD-ADFC-AD26F6B10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5FBC-742B-435F-86F7-BE11FA8AD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B99B-7ADA-450F-8034-10B8F9221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A12B-9E65-4FD2-BF3C-844EFAF26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976-746B-4B1A-B49D-4816CB7D0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6EEE-7257-43A1-AC1D-9961EAE52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3FC-B562-45EA-9042-CAB52C0C3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FDE4-BA0B-4404-A64B-7BFF89C5D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EA53-FFC7-42C7-82DE-D1D24EB18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9E79-858E-4F06-9C89-307BD28F5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B705-B50E-4A87-A31E-C67E55669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19C-36F8-4B9D-B8B6-A06C15BFF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C02-FDD9-4B78-AB15-AF9B9E128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8C5-CA9F-454A-9451-35673126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B74-CF2F-4636-8FAE-52FF1C3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4DF-095B-45C3-9417-7F476D4D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6C-5176-44A5-A665-33246725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CAA-232B-4987-84AD-857AAF3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9E0-DAD4-4C68-ABF4-54FD9D0F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7DAF-4470-4C26-808F-FFC0283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4DC-524D-489A-B55F-D987DDA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DA5-CCBE-4532-9202-2139F1B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0CA-9C06-43B5-99C0-E1AA3E9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1B1-ECE1-447E-B823-FD6CB7C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00D4-CECD-4EE0-99DA-70D6CB7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D881-0EFB-4B44-8261-F22A4D9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CBE8-0F9E-413C-8402-F698665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A56-66C9-4526-9E26-0BB88F9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6B20-0343-4BAB-8161-62C02C7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796-FD14-44C0-9228-479F65AC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DEB-9727-4BBD-87B3-A22CE8E6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25B7-9E40-49A7-8792-F5CEC62E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932B-C798-4A1A-B514-65EA4D4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F733-4581-4B79-B616-EAA462B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713-D561-47A1-99DE-B4DBBC80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E26C-A181-48D9-B03A-045B1770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A8D7-192A-4ECC-A91E-B918030E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5F1E-DDE1-40DD-A32E-80423819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8812-CFEC-45F3-8C72-7472455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0DD8-3941-4A1A-B7A5-F845D1C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3A0E-5D6D-4F51-8749-82B262C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3761-3D54-448C-B58D-8BD8B6BA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8456-BCA8-4195-8B6F-A96C7ADB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AA9E-BD4F-4B7E-81EF-466DDEE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8C23-99A5-41A0-B690-1153EF6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39F-3F42-49F0-9EF6-E3500E2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3CF6-9A3B-4ADE-B8D3-226B5FC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2CBF-C911-47DD-A9C0-FD25E958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C6FE-973A-40A5-8B3D-B7FDBA8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854B-C1EE-4B1B-83EC-F999128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EDF9-86B5-4606-8C52-CA8818D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C08D-37F2-454B-93B8-BCBC367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ED89-D6F8-4269-A9BA-A580747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C623-B762-4C67-BACE-D359737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4EDF-5B2B-47BD-BE9F-163A9C4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1BE0-9B4C-4A71-A98D-3A43C5A7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E98-7D12-49A8-9076-963A1DFB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B5A5-8540-461B-BC5C-572520B3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9FEF-9F5F-4CE8-BF27-FB7418FC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43B3-B94F-4BF7-929E-1A905F3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0D82-B1EA-4E5E-8182-1E67A9F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408D-004A-4A85-8688-93A8336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0346-E7C1-4464-A10D-15176265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732D-9438-42F1-95E9-A74C1BD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3BF2-E3E0-4314-9408-5C2A4C3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531C-AFBE-4504-BC60-F81097C8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4C50-5019-447A-AA58-A272EE4E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0C3-4FE7-4BF2-8475-609D4E3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E7CF-F28C-4D97-AAE7-7D6B8E0D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3B45-9C67-4DD2-B89E-2468201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D06D-0434-4969-BA94-8A578518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710B-C667-4F3E-8D1F-EBCF0021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9AF5-741A-453A-98DA-97C7985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A85D-725D-41B9-AA2A-EDA819B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7D88D-FF3C-4B9C-B995-016BF50F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80CC-149C-44E7-854C-3DEE305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CE0F-C888-4B56-A74B-1BAEE9D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CBA9-831B-4940-A40F-72516EA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C93-C595-402E-9694-709E6F1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1399-2D6C-4230-A50A-49985D5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1A2E-9E4A-41C8-B16D-794AF9C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499B-0F7C-4B96-8D9E-B38F21D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1F86-D8F4-4BE3-B369-3EEF7BC8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C713-1D8A-4DE0-ADB0-26FC60E3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740A-9857-4CFD-94CA-905FC6B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8D6D-3D3E-453A-8D8D-8DCAB1E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2518-1E7B-4ECD-8225-3DE32893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D9029-7E3B-4910-8CF7-C8DFF8E3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D2A6-37E5-42DC-B9D9-BAB7E83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E12-9DBE-4D2E-8651-056E73B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11A1-7C24-42DF-88A8-B61FF25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8AC88-60D8-4CFB-A614-FBD3946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5D6F-2DDA-4F93-B1EF-472EAA1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C4C1-E8D2-486A-85AA-5171255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C5260-BA61-4277-9F9F-C50AA683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AE49-CE47-4D63-885A-08E8467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88D7-C4A2-4334-B020-8FBDEDB5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A84-281A-4617-BC05-ADD17293C27A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5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32A4-B9E1-4C83-A846-AC4F0F47F14D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2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73A-208C-4C52-BDBA-48E72C6836F9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199-75F0-42B5-8FDE-B9AC2522B241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A67-A532-4249-868A-F01BA4F7B1B1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B4B3-ECE7-4494-BD6A-28D844990A39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2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bc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5506-E3FC-4FF9-9F76-C993F6821EC5}" type="slidenum">
              <a:rPr b="0" lang="en-US" sz="1200" spc="-1" strike="noStrike">
                <a:solidFill>
                  <a:srgbClr val="95bc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03 ФАРМАКОЕКОНОМИЈ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трошкови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оби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логија и токсик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и факултет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Спремност за плаћање </a:t>
            </a: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(WTP)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Каква(су питања)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 Коме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/K</a:t>
            </a: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ако (се постављају)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Тип услуга или добар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сигурни здравствени исход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W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несигурни здравствени исход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W*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несигурна и употреба и здравствени исход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W**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Феномен преливањ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engl. spillover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нездравствене доби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нпр. програм вакцинације који укључује особе у окружењ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Дизајн питања у </a:t>
            </a: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WTP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творе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широк распон одговор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ереспондери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ротесни респондер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Затворе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аукцијск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бијас почетне тачк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узми или остави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бијас почетног ранг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Типови података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rbel"/>
              </a:rPr>
              <a:t>Категоријални (квалитативни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2 категорије (бинарни, дихотомни, атрибутивни, да/не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мушки/женски; хипертензивни/нормотензив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3 и више категор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номинал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orbel"/>
              </a:rPr>
              <a:t>крвна група: А/Б/АБ/О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ординал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orbel"/>
              </a:rPr>
              <a:t>непушач/бивши пушач/лаки пушач/тешки пушач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rbel"/>
              </a:rPr>
              <a:t>Нумерички (квантитативни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дискретн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број деце: 0, 1, 2, 3, 4, 5, ит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континуиран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телесна тежина: 54.5 кг, 67.3 кг, 78.4 кг ит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Модел дискретног одабира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Мултиатрибутивна теорија користи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Избор лека/програма са више различитих каратеристика/атрибута (са или без цене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25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orbel"/>
              </a:rPr>
              <a:t>приближније реалном тржишту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Корак 1: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избор атрибута (4-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Корак 2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ниво вредности атрибу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Корак 2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спектар могућих опција за одабир (сценаријо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Корак 4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преференца најбољег сценариј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Корак 5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анализа податак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006b8d"/>
                </a:solidFill>
                <a:latin typeface="Corbel"/>
              </a:rPr>
              <a:t>За и против дискретног одабира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Предност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Сагледавање нездравствених карактерист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Релативно вредновање појединачних атрибут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Тешкоће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Интерна валидн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Конзистетнт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Тест-ретест поуздан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Укључивање атрибута цена/трошак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ниво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интерва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Правила одлучивања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то бенеф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ира се програм/лек са највећим нето бенефито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Количник бенефита и трошков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бира се сваки програм/лек са количником већим од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равила одлучивања зависе од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рсте буџета: неограничени или ограниче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дноса две интервенције: независни или међусобно искључив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Тешкоћ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аријабилност процене у зависности од мет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релевантност процене за дати контекс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губитак  опортуних бенефи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Закључак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Корисна анализа иако не обезбеђује сву основу за одлучивање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s and cons / Pro et contra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могућава разматрање алокативне ефикасност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индивидуално вредновање појединачних атрибута здравствених интервенц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тешкоће у одређивању монетарне вредности остварених бенефит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тешкоће у номенклатур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Дефиниција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Трошкови и бенефити се мере у истим, монетарним јединицам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Нето друштвени бенефи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Монетарни бенефити током датог пери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дисконтовани за годишњу каматну стопу током датог период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Монетарни трошкови током датог пери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дисконтовани за годишњу каматну стопу током датог период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Идентификовати пројекте са нето бенефитом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&gt;0</a:t>
            </a: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 или количником бенфита и трошкоа већим од 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Карактеристике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Приступ или анализ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Око две трећине студија нису потпуне анализе трошкови-бенеф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8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трошкови самог програма и трошкови без њег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orbel"/>
              </a:rPr>
              <a:t>уштеда у трошковима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1900" spc="-1" strike="noStrike">
                <a:solidFill>
                  <a:srgbClr val="000000"/>
                </a:solidFill>
                <a:latin typeface="Corbel"/>
              </a:rPr>
              <a:t>без учешћа монетарних бенефита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Оправданости здравственог програм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индивидуални конзумент вреднује исход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Ширина сагледавањ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унутар и између различитих сектора економиј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екстерналије (преливањ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широк опсег ефекат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Етички аспекти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Опредељење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Највећа добробит за највећи број, ил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Једнак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Људски живот и квалитет таквог живота се вреднује новцем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дилема и за доносиоце одлу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Здравствени радник вс. економиста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добробит болесни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економска доброб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Богати вс. сиромашни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спремност да се пл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Етички аспекти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Претпоставке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Добробит друштва се састоји од добробити сваког члана заједниц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Појединац најбоље процењује сопствене корис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Принцип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Актуелни Парето принци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један или више особа имају бенефите а нико нема штет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Потенцијални Парето принцип (Калдор-Хикс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добитници и губитници, али добитници компензују губитнике тако да читава заједница просперир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orbel"/>
              </a:rPr>
              <a:t>компензација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? </a:t>
            </a:r>
            <a:r>
              <a:rPr b="0" lang="sr-RS" sz="1900" spc="-1" strike="noStrike">
                <a:solidFill>
                  <a:srgbClr val="000000"/>
                </a:solidFill>
                <a:latin typeface="Corbel"/>
              </a:rPr>
              <a:t>ко губи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? </a:t>
            </a:r>
            <a:r>
              <a:rPr b="0" lang="sr-RS" sz="1900" spc="-1" strike="noStrike">
                <a:solidFill>
                  <a:srgbClr val="000000"/>
                </a:solidFill>
                <a:latin typeface="Corbel"/>
              </a:rPr>
              <a:t>ко добија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Одређивање бенефита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rbel"/>
              </a:rPr>
              <a:t>Додељивање монетарне вредности здравственим исходим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913320" indent="-4834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Приступ према људском капитал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engl. human capital approach – H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3320" indent="-4834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Обелодањен приорите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engl. revealed preferenc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3320" indent="-4834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rbel"/>
              </a:rPr>
              <a:t>Утврђен приорите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engl. stated preferenc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lnSpc>
                <a:spcPct val="10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потенцијалне вредност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engl. contingent valuation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lnSpc>
                <a:spcPct val="100000"/>
              </a:lnSpc>
              <a:spcBef>
                <a:spcPts val="55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модел дискретног одабир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обједињена анализ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engl. discrete choice modelling – conjoint analysi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Израчунавање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rbel"/>
              </a:rPr>
              <a:t>Нето друштвени бенефи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Монетарни бенефити током датог период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дисконтовани за годишњу каматну стопу током датог пери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Монетарни трошкови током датог период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дисконтовани за годишњу каматну стопу током датог пери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Идентификовати пројекте са нето бенефитом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rbel"/>
              </a:rPr>
              <a:t>Око две трећине студија нису потпуне анализе трошкови-бенефи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трошкови самог програма и трошкови без њег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уштеда у трошковима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без учешћа монетарних бенефи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6b8d"/>
                </a:solidFill>
                <a:latin typeface="Corbel"/>
              </a:rPr>
              <a:t>Приступи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иступ људском капитал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Бенефити у виду монетарне вредности сачуване радне продуктивност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груба процена доње границе спремности за плаћа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белодањен приорит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Бенефити трансакције за индивиду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трговина (одабир) између очекиваних додатних ризика и очекиване додатне зарад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006b8d"/>
                </a:solidFill>
                <a:latin typeface="Corbel"/>
              </a:rPr>
              <a:t>Метод потенцијалних вредности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Хипотетичко тржиште здравствених интервенција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пацијент, старатељ, друштво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Максимални износ новца који би се платио за интервенцију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gl. willingness to pay (WTP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Минимални износ новца који би се добио као компензација за непримењену интервенцију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gl. willingness to accept (WTA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Спроводи се путем различито дизајнираних упитника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rbel"/>
              </a:rPr>
              <a:t>Проблеми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rbel"/>
              </a:rPr>
              <a:t>изостанак одговора, бијас почетне тачке, утицај других фактора осим це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7:59:38Z</dcterms:created>
  <dc:creator>Dragan</dc:creator>
  <dc:description/>
  <dc:language>en-US</dc:language>
  <cp:lastModifiedBy>ARHANGEL</cp:lastModifiedBy>
  <dcterms:modified xsi:type="dcterms:W3CDTF">2012-03-10T13:13:13Z</dcterms:modified>
  <cp:revision>32</cp:revision>
  <dc:subject/>
  <dc:title>Анализа трошкови-бенефит</dc:title>
</cp:coreProperties>
</file>